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8CA037-60E9-4A4A-905E-7DB6543CA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FACA4F-5E76-4E57-9E83-1D456E6F6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D5D5299-4521-41DB-9C08-09EAF3039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6D6-7BD3-456B-A653-5B1D1120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CBD-96EC-4D34-AFF0-FFD926C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102-F96C-4657-AEF3-054B74C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886-EC73-46D0-A158-AE665F99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A58-9282-408C-95D9-3061E469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9EB-FA40-4592-9C70-2D389A32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C58-1F80-406D-B2BD-253F9924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0FC-7718-4818-8CE9-B8C068CD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12B-6C60-4A1E-B7E5-3721E1BA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607-C410-4DF8-9545-7D08DD0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E90-6FBD-4579-BDB5-2C582FA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C45-E209-458C-BCEF-F738824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B6C6C7-5D13-4C2F-97E4-B1390A834B93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D538D25-DAAB-4B3E-BBDC-7AC19632EC76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380880" y="762120"/>
            <a:ext cx="216072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urrent Skill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all nouns as singular possessiv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ample: the king’s crow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553080" y="2666880"/>
            <a:ext cx="28004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urrent skill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saurus Practic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reate a list of synonyms (words that mean the same or about the same) for 8 spelling word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Use a thesaurus if needed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048120" y="4876920"/>
            <a:ext cx="327960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urrent skill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xt organization. Decide what spelling words belong together. Group them into, at least, two groups. Provide a title for each gro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: one syllable words – won, king, fun &amp; two syllable words – compute, funn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3352680" y="914400"/>
            <a:ext cx="272124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7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elling (.) sentenc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Each sentence must use a spelling word. Underline the spelling wor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228600" y="2971800"/>
            <a:ext cx="263988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7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question (?) sentenc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Each sentence must use a spelling word. Underline the spelling wor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6781680" y="1219320"/>
            <a:ext cx="256068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each word in cursive twic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029200"/>
            <a:ext cx="297180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ainbow Spelling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ents may type (preferred) or write each word with vowels and consonants in a different font style or colo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200400" y="2743200"/>
            <a:ext cx="2960640" cy="18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about a thing you would like to learn more about. Use 6 spelling word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line each wor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ents are beginning research projects in cla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800760" y="5121360"/>
            <a:ext cx="25606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5 sentences that us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quotation (“ ”) marks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o show someone speaking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-152280"/>
            <a:ext cx="9372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700" spc="-1" strike="noStrike">
                <a:solidFill>
                  <a:srgbClr val="000000"/>
                </a:solidFill>
                <a:latin typeface="Calibri"/>
              </a:rPr>
              <a:t>Ant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Students must complete Tic-Tac-Toe (three in a row – must us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8:56:43Z</dcterms:created>
  <dc:creator> </dc:creator>
  <dc:description/>
  <dc:language>en-US</dc:language>
  <cp:lastModifiedBy>Mits Mits</cp:lastModifiedBy>
  <dcterms:modified xsi:type="dcterms:W3CDTF">2010-02-17T13:47:12Z</dcterms:modified>
  <cp:revision>3</cp:revision>
  <dc:subject/>
  <dc:title>Slide 1</dc:title>
</cp:coreProperties>
</file>